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21CB-FC19-45B2-B26B-989BD25FCA5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A272-E48C-4836-BCE4-DD506504C28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pport OASIS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24FA-7489-4F4F-A592-685BCB9AA15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pport OASIS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6817-9499-4768-A23B-D2866A33E66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CPFAS-Togo : Réseau des Champions en Plaidoyer pour le Financement Adéquat de la Santé au Tog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A6FD-D2FF-4E8A-A7E7-06F26A7197D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9DF9-56D8-4717-BAC5-6A9D3A8411D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A62B-1181-4666-9AA9-AEF7AEB8616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AD83-EAD9-4DBA-9A87-83CE78112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6DB5-E742-491D-830A-215751BD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42E0-471A-4627-ABA0-4C812BCC5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B1F6-BEFD-4954-AB4B-C2006EBF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8CE6-E38A-4600-A758-403E40B4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C1B2-1445-4753-803D-FA427A2B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EB54-FC04-4964-B54B-91F1648C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9EBC-EB1A-436E-8742-F904AA0A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8469-6827-4D15-888C-AA23E12B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DC96-7EA1-4C61-9F2D-E59B898D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D5DA-E041-44C3-9114-DB6C524C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58B3-1165-4AAB-9515-A70D1E22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8415-A0D1-4359-977C-73AF0A90AB6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BBA0-F443-43FA-A1AC-2A5122B31D4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058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w Cen MT"/>
                <a:ea typeface="Ebrima"/>
              </a:rPr>
              <a:t>REPUBLIQUE TOGOLAISE</a:t>
            </a:r>
            <a:br>
              <a:rPr sz="2800"/>
            </a:br>
            <a:r>
              <a:rPr b="1" lang="fr-FR" sz="1300" spc="-1" strike="noStrike">
                <a:solidFill>
                  <a:srgbClr val="005c00"/>
                </a:solidFill>
                <a:latin typeface="Arial Narrow"/>
                <a:ea typeface="Arial"/>
              </a:rPr>
              <a:t>MINISTERE DE LA SANTE ET DE LA PROTECTION SOCIA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87EF-C338-446D-84DB-9D473A0DB7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cteur droit 4"/>
          <p:cNvSpPr/>
          <p:nvPr/>
        </p:nvSpPr>
        <p:spPr>
          <a:xfrm>
            <a:off x="1116000" y="1628640"/>
            <a:ext cx="6840720" cy="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419640" y="5300640"/>
            <a:ext cx="4824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d0d0d"/>
                </a:solidFill>
                <a:latin typeface="Arial Narrow"/>
              </a:rPr>
              <a:t>Lomé, 09 février 20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692360" y="4160880"/>
            <a:ext cx="61927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100" spc="-1" strike="noStrike">
                <a:solidFill>
                  <a:srgbClr val="000000"/>
                </a:solidFill>
                <a:latin typeface="Calibri"/>
              </a:rPr>
              <a:t>Cadre institutionnel et modalités de mobilisation des financements domestiques pour la santé</a:t>
            </a:r>
            <a:r>
              <a:rPr b="1" lang="fr-CH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835280" y="3029040"/>
            <a:ext cx="56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70c0"/>
                </a:solidFill>
                <a:latin typeface="Arial Narrow"/>
                <a:ea typeface="MS Mincho"/>
              </a:rPr>
              <a:t>Dialogue national sur le financement de la santé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3211920" y="3419640"/>
            <a:ext cx="27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  <a:ea typeface="MS Mincho"/>
              </a:rPr>
              <a:t>_ _ _ _ _ _ _ _ _ _ _ __ 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il_fi" descr="http://www.republicoftogo.com/var/ezflow_site/storage/images/toutes-les-rubriques/medias/a-quelles-armoiries-se-vouer/27857-1-fre-FR/A-quelles-armoiries-se-vouer_article_top.jpg"/>
          <p:cNvPicPr/>
          <p:nvPr/>
        </p:nvPicPr>
        <p:blipFill>
          <a:blip r:embed="rId1"/>
          <a:srcRect l="1756" t="0" r="56632" b="15791"/>
          <a:stretch/>
        </p:blipFill>
        <p:spPr>
          <a:xfrm>
            <a:off x="4076640" y="1773360"/>
            <a:ext cx="9907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991280" cy="9367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Mobilisation du  financement domestique</a:t>
            </a:r>
            <a:br>
              <a:rPr sz="3400"/>
            </a:b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pour la CMU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1/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78920" y="1701360"/>
            <a:ext cx="8425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00000"/>
                </a:solidFill>
                <a:latin typeface="Calibri"/>
              </a:rPr>
              <a:t>CONSTA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 Togo, il y a une Assurance maladie à vocation universelle: INA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: 3 à 4 milliards par an de l’Etat en tant que part employeur (3,5% des salaires) pour 300.000 personnes (salariés et ayants droi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tisation des fonctionnaires de l’Etat : 3,5% des sal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couverture d’une personne pour 1 an demande 22.000F  pour le panier actuel INAM (consultation, médicament, chirurgie, imagerie, lunetterie, prothè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 moins 80% de la population active est  dans l’informel avec des revenus non maitrisé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69786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79BA-FDCE-4D9A-AB36-BCD2A3D70FE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24000" y="404640"/>
            <a:ext cx="360360" cy="360360"/>
          </a:xfrm>
          <a:prstGeom prst="rect">
            <a:avLst/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9367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Mobilisation du  financement domestique</a:t>
            </a:r>
            <a:br>
              <a:rPr sz="3400"/>
            </a:b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pour la CMU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2/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8920" y="1267920"/>
            <a:ext cx="8496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Calibri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de la capacité contributive de la population:  étude en cou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sur les mécanismes de collecte des contributions du secteur inform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d’aller à la couverture universelle avec le panier actuel IN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vantage d’une caisse d’assurance maladie de recevoir aussi bien des subventions de l’Etat que des financements dédié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RECOMMAND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Faire des études actuarielles pour proposer des options financières réalistes à l’Etat (panier, coût, financemen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69786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95AD-E703-4539-89B3-C1FB09AFF9B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24000" y="404640"/>
            <a:ext cx="360360" cy="360360"/>
          </a:xfrm>
          <a:prstGeom prst="rect">
            <a:avLst/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424720" cy="504720"/>
          </a:xfrm>
          <a:prstGeom prst="rect">
            <a:avLst/>
          </a:prstGeom>
          <a:noFill/>
          <a:ln w="9360">
            <a:solidFill>
              <a:srgbClr val="4a452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ise en commun des fonds domestiques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1/2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8000" y="836640"/>
            <a:ext cx="8856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Calibri"/>
              </a:rPr>
              <a:t>CONSTA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AM, caisse qui reçoit les cotisations employeurs et employés du secteur 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imites : statut et loi ne permettant pas d’enrôler d’autres bénéficiaires hors secteur 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istence d’autres mutuelles, couvrant 16.000 bénéficiaires pour 0,04% de dépense totale en santé en 2008 et d’assurances maladie privées  pour 2,3% des dépenses de santé (CNS, 2008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istence d’autres subventions de l’Etat: césarienne, indigents, dialyse, ARV, évacuation sanitai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Calibri"/>
              </a:rPr>
              <a:t>ANALY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statut de l’INAM lui permet une gestion auton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ragmentation et diversité des fonds existants en matière de CSU, d’où une faible viabilité financière du systèm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extension de la CSU  à toute la population pose la question de l’architecture appropriée  pour sa ges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pportunité de diminuer le paiement direct des ménages par la mutualisation des cotis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699624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8C15-054D-49F6-AF2D-A7F81D9D572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50920" y="189000"/>
            <a:ext cx="360360" cy="360360"/>
          </a:xfrm>
          <a:prstGeom prst="rect">
            <a:avLst/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424720" cy="504720"/>
          </a:xfrm>
          <a:prstGeom prst="rect">
            <a:avLst/>
          </a:prstGeom>
          <a:noFill/>
          <a:ln w="9360">
            <a:solidFill>
              <a:srgbClr val="4a452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ise en commun des fonds domestiques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2/2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1341000"/>
            <a:ext cx="8856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ff"/>
                </a:solidFill>
                <a:latin typeface="Calibri"/>
              </a:rPr>
              <a:t>RECOMMAND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Faire une évaluation pour bien apprécier l’efficacité et l’efficience de la gestion de INAM et les autres fo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Réviser  la loi sur l’assurance maladie obligatoire  et le décret portant organisation de l’INAM pour passer à l’échel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roposer une structure unique qui englobe les structures existant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Mener des actions vers les collectivités locales pour leur participation active dans la mobilisation des fond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699624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2D00-0804-4721-A1A9-D0CD8EECF2D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50920" y="189000"/>
            <a:ext cx="360360" cy="360360"/>
          </a:xfrm>
          <a:prstGeom prst="rect">
            <a:avLst/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63504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Achat de services de santé par l’assurance maladie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7280" y="907920"/>
            <a:ext cx="85694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00000"/>
                </a:solidFill>
                <a:latin typeface="Calibri"/>
              </a:rPr>
              <a:t>CONSTAT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: IN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nier de soins assez large (consultation, médicament, labo, chirurgie, imagerie, lunetterie, prothèse, etc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dalités de payement: Tiers payant à l’acte avec base de taux de rembours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alibri"/>
              </a:rPr>
              <a:t>ANALY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’assuré bénéficie d’un accès à de nombreux services curatifs sans barrière financiè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système INAM ne suffit pas à offrir des soins de qualité: disponibilité de soins non uniforme sur toute l’étendue du territo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recours aux soins a augmenté avec INA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Calibri"/>
              </a:rPr>
              <a:t>RECOMMAND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Définir un panier de soins de base pour tous qui répond aux besoins essentiels de la popul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méliorer la qualité de l’offre de soins dans toute la pyramide sanit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ationnaliser l’offre de soins à travers un système de référence et contre-référe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6973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2011-7489-4D74-A0A3-143A75C02FE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50920" y="260280"/>
            <a:ext cx="360360" cy="360360"/>
          </a:xfrm>
          <a:prstGeom prst="rect">
            <a:avLst/>
          </a:prstGeom>
          <a:solidFill>
            <a:srgbClr val="98480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6203-8B49-448A-B2A6-B8E5684EE61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2082960"/>
            <a:ext cx="8229600" cy="26920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Point 1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Proposer une plateforme nationale de mobilisation des ressources domestiques, sa composition, sa mission et la description des rôles et responsabilités de chaque acteur ou secteur memb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CFE4-469C-4081-9EF7-27EED6E4893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86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sta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06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Existe-t-il déjà une plate-forme ou cadre institutionnel pour la mobilisation de financement domestique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 priori non, mais il existe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santé VI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IHP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éseau des Champions en Plaidoyer pour le Financement Adéquat de la Santé au Togo (Association loi 1901) peu fonctionnel, mais a eu un résultat dans le financement de la PF (appui de AGIR PF pour élire un nouveau burea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lates-formes très larges, non focalisées sur le financement de la santé ou pas totalement fonctionnelles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466A-8F94-4A56-9136-4C6573117F0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nalyse des problè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augmenter le financement domestique pour la sant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appropriation à haut niveau de la problématique du financement domestique de la san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un cadre institutionnel de haut niveau pour la mobilisation et le suivi stratégique du financement domestique de la sant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solidFill>
            <a:srgbClr val="604a7b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C5BB-8A4C-4621-9942-01A73B6400B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0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Recommandatio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ettre en place un comité de pilotage /cadre institutio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a mission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ccélérer les reformes pour la mobilisation adéquate des ressources publiques et privée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pour la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ant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A1CB-B0D3-4F59-9340-3E210D1BD34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Objectifs du cadre institutionnel/ comité de pilot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S’approprier toutes les initiatives et décisions en matière de mobilisation de ressources pour la sant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roposer des priorités pour la mobilisation de ressources financières en santé (stratégies, financements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Faciliter les réformes pour la mise en œuvre des mécanismes de mobilisation de ressources additionnell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Faire le suivi stratégique de la mise en œuvre du financement de la santé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ssurer un dialogue continu avec le groupe de plaidoyer (RCPFAS-Togo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50920" y="476280"/>
            <a:ext cx="360360" cy="36036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3C44-4BF2-4114-9371-1269FAFCCB1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7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omposition du comité de pilot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00360" y="1915920"/>
            <a:ext cx="4392360" cy="40338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ncrage instituti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sidence? Possible avec l’existence d’un  chargé des études sur le financement innovant…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rgane technique en support pour assurer le fonctionnement du comité de pilotage (compétences en santé, protection sociale, finance, société civil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50920" y="404640"/>
            <a:ext cx="360360" cy="36036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4CC3-AD21-4DF2-993A-1D778C4DF8C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108000" y="1125360"/>
            <a:ext cx="4319640" cy="57326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Représentativité multisectoriel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sidence de la Républ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imatu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San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planification du développ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s fina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Décentralis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 du Comme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’économie numér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arle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ecteur priv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ociété Civile y compris les mé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T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8960" y="259920"/>
            <a:ext cx="8506080" cy="10810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int 2 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éterminer les modalités d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obilisation des financements domestiques pour la san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2 sources actuelles de financement 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axes pour l’Etat 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 privé y compris paiement direct des mén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Des modalités autour des réformes pou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lus d’argent dans le budget Etat 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s innovants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ransformation d’une partie du paiement direct des ménages en cotis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lèche vers le bas 4"/>
          <p:cNvSpPr/>
          <p:nvPr/>
        </p:nvSpPr>
        <p:spPr>
          <a:xfrm>
            <a:off x="4211640" y="4941720"/>
            <a:ext cx="720720" cy="79092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ZoneTexte 5"/>
          <p:cNvSpPr/>
          <p:nvPr/>
        </p:nvSpPr>
        <p:spPr>
          <a:xfrm>
            <a:off x="900000" y="5805360"/>
            <a:ext cx="7344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c00000"/>
                </a:solidFill>
                <a:latin typeface="Calibri"/>
              </a:rPr>
              <a:t>Opportunité d’une caisse d’assurance maladie comme mécanisme de financement de la sant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9A48-FB9F-4BFE-9A54-357FE3186EE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00000" y="2349360"/>
            <a:ext cx="7344000" cy="21592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Point 2 revisité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éterminer les modalités de collecte et de mise en commun des fonds et achat de services de santé par l’assurance maladie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8F86-CA23-4227-A0B3-3C7353D33D6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8600" y="259920"/>
            <a:ext cx="4684680" cy="1081080"/>
          </a:xfrm>
          <a:prstGeom prst="rect">
            <a:avLst/>
          </a:prstGeom>
          <a:noFill/>
          <a:ln w="76320">
            <a:solidFill>
              <a:srgbClr val="a6a6a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7f7f7f"/>
                </a:solidFill>
                <a:latin typeface="Calibri"/>
              </a:rPr>
              <a:t>Point 2 : </a:t>
            </a:r>
            <a:r>
              <a:rPr b="0" i="1" lang="fr-CH" sz="2400" spc="-1" strike="noStrike">
                <a:solidFill>
                  <a:srgbClr val="7f7f7f"/>
                </a:solidFill>
                <a:latin typeface="Calibri"/>
              </a:rPr>
              <a:t>Déterminer les modalités de </a:t>
            </a:r>
            <a:r>
              <a:rPr b="0" i="1" lang="fr-FR" sz="2400" spc="-1" strike="noStrike">
                <a:solidFill>
                  <a:srgbClr val="7f7f7f"/>
                </a:solidFill>
                <a:latin typeface="Calibri"/>
              </a:rPr>
              <a:t>mobilisation des financements domestiques pour la san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lèche vers le bas 4"/>
          <p:cNvSpPr/>
          <p:nvPr/>
        </p:nvSpPr>
        <p:spPr>
          <a:xfrm>
            <a:off x="1835280" y="1484280"/>
            <a:ext cx="504720" cy="720720"/>
          </a:xfrm>
          <a:prstGeom prst="downArrow">
            <a:avLst>
              <a:gd name="adj1" fmla="val 50000"/>
              <a:gd name="adj2" fmla="val 29498"/>
            </a:avLst>
          </a:prstGeom>
          <a:solidFill>
            <a:srgbClr val="d9d9d9"/>
          </a:soli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6T11:50:22Z</dcterms:created>
  <dc:creator>Administrator</dc:creator>
  <dc:description/>
  <dc:language>en-US</dc:language>
  <cp:lastModifiedBy>TOSHIBA</cp:lastModifiedBy>
  <dcterms:modified xsi:type="dcterms:W3CDTF">2017-02-09T08:09:01Z</dcterms:modified>
  <cp:revision>74</cp:revision>
  <dc:subject/>
  <dc:title>Groupe 2 : Cadre institutionnel et modalités de mobilisation des financements domestiques pour la santé</dc:title>
</cp:coreProperties>
</file>